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52C-7FA7-41AB-ACE8-851115638A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B8C-1B13-4B70-B592-68CFD9BDBD7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238-0916-45CA-A989-1CCCC25B068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01CE-E857-4531-917B-53B4E92ABD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4CC8-B823-410F-A258-23874D7AC2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1947-C57C-48A2-8F4E-0F0705F6613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1D4-E8D5-4A44-BAE6-F4DFBF1CE9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5776-9DB7-49E9-8EAA-98F98BD491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CF7-51D9-4C09-AD5C-79B8B52729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4DFF-C285-4944-89F4-07EB356BEA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C520-178F-4893-BC55-F1ED3017C9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4142-2BDF-42C7-9EC8-A15EDB1A7D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82F-26F9-4C67-8514-2B96F6BF91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EB50-DCCD-4CD1-BAA0-16F2F49D9E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EA3E-9F5A-482A-B641-A7A514A28D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AA82-DA4B-4972-B4B9-2224130923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E995-6CD9-4519-9186-F2BF1856861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DD4-07B9-455E-9EF9-2B5652F030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1F3C-35C1-4120-B9B8-92A834F901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EB1-7AE5-478E-A286-D5C8D699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2B6-2419-484A-8FC8-DEF10772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7F9-919A-4C20-8C7F-D2152727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1F8-B84F-4200-AE17-F836934F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3E8-6A2F-485A-A79C-5C327A19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234-CCD5-4546-8945-006A02D5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4B3-DABC-48B8-B463-6EBD4E1B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E5C-878F-4B81-B159-14B0618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EB2-0A19-452B-8678-B164069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95F-2A6E-44F3-B299-F426B6D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02D-4148-40DD-B2D0-EE089CA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B43-3EE7-4052-B8DF-AC6FC76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a6a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774A-53D8-478E-ACDA-4BF9367D69A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2" descr=""/>
          <p:cNvPicPr/>
          <p:nvPr/>
        </p:nvPicPr>
        <p:blipFill>
          <a:blip r:embed="rId1"/>
          <a:stretch/>
        </p:blipFill>
        <p:spPr>
          <a:xfrm>
            <a:off x="2598840" y="-87480"/>
            <a:ext cx="6549840" cy="536760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-108000" y="4680"/>
            <a:ext cx="5037120" cy="6853320"/>
          </a:xfrm>
          <a:prstGeom prst="rect">
            <a:avLst/>
          </a:prstGeom>
          <a:solidFill>
            <a:srgbClr val="e94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7"/>
          <p:cNvSpPr/>
          <p:nvPr/>
        </p:nvSpPr>
        <p:spPr>
          <a:xfrm>
            <a:off x="111240" y="495360"/>
            <a:ext cx="4572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  <a:ea typeface="Arial"/>
              </a:rPr>
              <a:t>Engenharia em calcários cársticos: modelagem geológica e soluções construtivas para instalação de empreendimentos line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33200" y="2565360"/>
            <a:ext cx="493236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icitada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C -  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to FI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Berr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sília, 08 de junho 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"/>
          <p:cNvSpPr/>
          <p:nvPr/>
        </p:nvSpPr>
        <p:spPr>
          <a:xfrm>
            <a:off x="4932360" y="5300640"/>
            <a:ext cx="4211640" cy="1557360"/>
          </a:xfrm>
          <a:prstGeom prst="rect">
            <a:avLst/>
          </a:prstGeom>
          <a:solidFill>
            <a:srgbClr val="e94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m 2" descr=""/>
          <p:cNvPicPr/>
          <p:nvPr/>
        </p:nvPicPr>
        <p:blipFill>
          <a:blip r:embed="rId2"/>
          <a:stretch/>
        </p:blipFill>
        <p:spPr>
          <a:xfrm>
            <a:off x="5700600" y="5632560"/>
            <a:ext cx="28083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CaixaDeTexto 2"/>
          <p:cNvSpPr/>
          <p:nvPr/>
        </p:nvSpPr>
        <p:spPr>
          <a:xfrm>
            <a:off x="98280" y="3938760"/>
            <a:ext cx="904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 risco geotécnico é definido como,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'o risco de edifícios ou de outras obras de engenharia criados pelas condições do terreno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’. Significa que os riscos geotécnicos tanto dependem da forma como os projetos são gerenciados pelos engenheiros encarregados da obra e construídos pela equipe do projeto,  como dependem das condições inerentes ao terre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3"/>
          <p:cNvSpPr/>
          <p:nvPr/>
        </p:nvSpPr>
        <p:spPr>
          <a:xfrm>
            <a:off x="630360" y="4208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SUGESTÕES PARA SOLUÇÕES CONSTRUTIV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4"/>
          <p:cNvSpPr/>
          <p:nvPr/>
        </p:nvSpPr>
        <p:spPr>
          <a:xfrm>
            <a:off x="66600" y="1228680"/>
            <a:ext cx="886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Será utilizado como referência o artigo de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Fisher et al. (2014)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 sobre o projeto da Rede Ferroviária de minério de ferro do Rio Tinto em Pilbara (Projeto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  <a:ea typeface="Arial"/>
              </a:rPr>
              <a:t>Hope Downs 4)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, região oeste da Austrália; onde o  terreno cárstico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cria as condições do solo e os geoperigos associados ao desafio,  potencialmente mais significativo, da engenharia desse país para o desenvolvi-mento, operação e manutenção deste importante patrimô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2"/>
          <p:cNvSpPr/>
          <p:nvPr/>
        </p:nvSpPr>
        <p:spPr>
          <a:xfrm>
            <a:off x="395280" y="1341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Arial"/>
              </a:rPr>
              <a:t>Identificar georiscos e gerenciar os riscos geotécnicos que possam surgir, por exemplo, assentamento ou colapso do terreno em cavidades cársticas subjacentes. Requer a implementação de uma estratégia robusta e sistemática de gerenciamento de riscos geotécnicos com início na primeira oportunidade no pro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3"/>
          <p:cNvSpPr/>
          <p:nvPr/>
        </p:nvSpPr>
        <p:spPr>
          <a:xfrm>
            <a:off x="468360" y="384660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Arial"/>
              </a:rPr>
              <a:t>É muito importante, a recomendação de gerenciamento do risco geotécnico que deverá ser integrada no gerenciamento mais amplo dos objetivos e metas do projeto.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Indiscutivelmente, não fazê-lo representa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aior risco geotécnic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ixaDeTexto 4"/>
          <p:cNvSpPr/>
          <p:nvPr/>
        </p:nvSpPr>
        <p:spPr>
          <a:xfrm>
            <a:off x="611280" y="260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SUGESTÕES PARA SOLUÇÕES CONSTRUTIVAS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2"/>
          <p:cNvSpPr/>
          <p:nvPr/>
        </p:nvSpPr>
        <p:spPr>
          <a:xfrm>
            <a:off x="119160" y="1033560"/>
            <a:ext cx="864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Terrenos cársticos se caracterizam por uma superfície e subsolo com feições típicas provocadas pela dissolução de rochas carbonáticas solúveis, tais como calcário e dolomita, com feições que incluem crateras, cavidades, córregos desaparecendo, juntas em rochas ampliadas / planos de estratificação, e zonas de picos</a:t>
            </a:r>
            <a:r>
              <a:rPr b="0" lang="pt-BR" sz="2400" spc="-1" strike="noStrike">
                <a:solidFill>
                  <a:srgbClr val="21596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3"/>
          <p:cNvSpPr/>
          <p:nvPr/>
        </p:nvSpPr>
        <p:spPr>
          <a:xfrm>
            <a:off x="174600" y="33526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Essas características não são sempre observáveis na superfície do solo cárstico e são particularmente difíceis de prever, investigar e construir obras lineares, como ferrov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4"/>
          <p:cNvSpPr/>
          <p:nvPr/>
        </p:nvSpPr>
        <p:spPr>
          <a:xfrm>
            <a:off x="341280" y="189000"/>
            <a:ext cx="88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CARACTERÍSTICAS BÁSICAS DE TERRENOS CÁR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ÚTEIS PARA A ENGENH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5"/>
          <p:cNvSpPr/>
          <p:nvPr/>
        </p:nvSpPr>
        <p:spPr>
          <a:xfrm>
            <a:off x="174600" y="4552920"/>
            <a:ext cx="853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taxa de dissolução é muito lenta e superfícies rochosas expostas recuam alguns milímetros por 100 anos. Por conseguinte, o georisco mais significativo de terreno cárstico é o colapso do solo em cavidades pré-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CaixaDeTexto 2"/>
          <p:cNvSpPr/>
          <p:nvPr/>
        </p:nvSpPr>
        <p:spPr>
          <a:xfrm>
            <a:off x="250920" y="981000"/>
            <a:ext cx="879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Colapso súbito pode ocorrer se o solo sobrejacente tiver alguma capacidade temporária para servir de "ponte" de uma cavidade existente. Uma secção esquemática de uma subsidência típica é fornecida na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Figura 2.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m 3" descr=""/>
          <p:cNvPicPr/>
          <p:nvPr/>
        </p:nvPicPr>
        <p:blipFill>
          <a:blip r:embed="rId2"/>
          <a:stretch/>
        </p:blipFill>
        <p:spPr>
          <a:xfrm>
            <a:off x="455760" y="2768760"/>
            <a:ext cx="3924000" cy="2638440"/>
          </a:xfrm>
          <a:prstGeom prst="rect">
            <a:avLst/>
          </a:prstGeom>
          <a:ln w="0">
            <a:noFill/>
          </a:ln>
        </p:spPr>
      </p:pic>
      <p:sp>
        <p:nvSpPr>
          <p:cNvPr id="123" name="CaixaDeTexto 4"/>
          <p:cNvSpPr/>
          <p:nvPr/>
        </p:nvSpPr>
        <p:spPr>
          <a:xfrm>
            <a:off x="4356000" y="2781360"/>
            <a:ext cx="478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ixaDeTexto 5"/>
          <p:cNvSpPr/>
          <p:nvPr/>
        </p:nvSpPr>
        <p:spPr>
          <a:xfrm>
            <a:off x="4405320" y="2495520"/>
            <a:ext cx="468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Raramente ocorrem crateras e outras cavidades em áreas de chão não perturbado e a grande maioria é induzida por perturbação no solo, principal-mente por atividades de engenharia, com o aumento da infiltração de água ou rebaixamento do lençol de água subterrâ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6"/>
          <p:cNvSpPr/>
          <p:nvPr/>
        </p:nvSpPr>
        <p:spPr>
          <a:xfrm>
            <a:off x="254160" y="260280"/>
            <a:ext cx="87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EFEITOS DE ENGENHARIA EM TERRENOS CÁR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2"/>
          <p:cNvSpPr/>
          <p:nvPr/>
        </p:nvSpPr>
        <p:spPr>
          <a:xfrm>
            <a:off x="755640" y="55483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Arial"/>
              </a:rPr>
              <a:t>Figura 2 – </a:t>
            </a: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Subsidência típ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2"/>
          <p:cNvSpPr/>
          <p:nvPr/>
        </p:nvSpPr>
        <p:spPr>
          <a:xfrm>
            <a:off x="250920" y="1413000"/>
            <a:ext cx="879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estrutura planeada para o gerenciamento de risco geotécnico, para ser incorporada no gerenciamento global do projeto Hope Downs 4, é apresentada no quadro do próximo slide mostrando de forma simplificada os princípios gerais utilizados com sucesso para gerenciar o risco geotécnico desse projeto ferrovi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3"/>
          <p:cNvSpPr/>
          <p:nvPr/>
        </p:nvSpPr>
        <p:spPr>
          <a:xfrm>
            <a:off x="179280" y="376560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Nesse quadro se apresentam, de forma simplificada, as principais atividades e responsabilidades nas várias etapas desse projeto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: Planejamento, Desenho, Construção e Operação e Manutenção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, e as atividades de cada especialidade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: Cliente/Gerente, Desenhistas, Geólogos e Constr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4"/>
          <p:cNvSpPr/>
          <p:nvPr/>
        </p:nvSpPr>
        <p:spPr>
          <a:xfrm>
            <a:off x="250920" y="404640"/>
            <a:ext cx="87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QUADRO DE ATIVIDADES DE UM PROJETO FERROVIÁRIO EM UMA ÁREA CÁR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2" descr=""/>
          <p:cNvPicPr/>
          <p:nvPr/>
        </p:nvPicPr>
        <p:blipFill>
          <a:blip r:embed="rId2"/>
          <a:stretch/>
        </p:blipFill>
        <p:spPr>
          <a:xfrm>
            <a:off x="0" y="260280"/>
            <a:ext cx="90853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CaixaDeTexto 2"/>
          <p:cNvSpPr/>
          <p:nvPr/>
        </p:nvSpPr>
        <p:spPr>
          <a:xfrm>
            <a:off x="249120" y="90180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Com as áreas cársticas de risco potencial melhor delineadas, é concluído o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apeamento de campo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Figura 3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). A próxima etapa é o gerenciamento de riscos, na qual seus objetivos principais são definir melhor a extensão de dolomitas e calcitas e inspecionar evidências de crateras cársticas existentes ou de outras feições relacion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3"/>
          <p:cNvSpPr/>
          <p:nvPr/>
        </p:nvSpPr>
        <p:spPr>
          <a:xfrm>
            <a:off x="360360" y="3384720"/>
            <a:ext cx="842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 mapeamento é um gasto conveniente, não é uma atividade intrusiva e oferece uma maneira rápida de compreender novas condições do terreno. Técnicas para estudo da estrutura do subsolo, tais como levantamentos geofísicos, entre os quais o método de H/V que será descrito nesta apresentação, perfurações de teste, etc. Os  quais são utilizados apenas onde necess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4"/>
          <p:cNvSpPr/>
          <p:nvPr/>
        </p:nvSpPr>
        <p:spPr>
          <a:xfrm>
            <a:off x="539640" y="404640"/>
            <a:ext cx="76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APEAMENTO GEO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tângulo 1"/>
          <p:cNvSpPr/>
          <p:nvPr/>
        </p:nvSpPr>
        <p:spPr>
          <a:xfrm>
            <a:off x="0" y="611352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m 1" descr=""/>
          <p:cNvPicPr/>
          <p:nvPr/>
        </p:nvPicPr>
        <p:blipFill>
          <a:blip r:embed="rId1"/>
          <a:stretch/>
        </p:blipFill>
        <p:spPr>
          <a:xfrm>
            <a:off x="7105680" y="6157800"/>
            <a:ext cx="1947960" cy="53352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2" descr=""/>
          <p:cNvPicPr/>
          <p:nvPr/>
        </p:nvPicPr>
        <p:blipFill>
          <a:blip r:embed="rId2"/>
          <a:stretch/>
        </p:blipFill>
        <p:spPr>
          <a:xfrm>
            <a:off x="971640" y="6480"/>
            <a:ext cx="687060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CaixaDeTexto 3"/>
          <p:cNvSpPr/>
          <p:nvPr/>
        </p:nvSpPr>
        <p:spPr>
          <a:xfrm>
            <a:off x="0" y="5372280"/>
            <a:ext cx="90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Figura 3-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Mapa simplificado de engenharia e geologia e tabela de des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m 1" descr=""/>
          <p:cNvPicPr/>
          <p:nvPr/>
        </p:nvPicPr>
        <p:blipFill>
          <a:blip r:embed="rId1"/>
          <a:stretch/>
        </p:blipFill>
        <p:spPr>
          <a:xfrm>
            <a:off x="7299360" y="6281640"/>
            <a:ext cx="1736640" cy="533520"/>
          </a:xfrm>
          <a:prstGeom prst="rect">
            <a:avLst/>
          </a:prstGeom>
          <a:ln w="0">
            <a:noFill/>
          </a:ln>
        </p:spPr>
      </p:pic>
      <p:sp>
        <p:nvSpPr>
          <p:cNvPr id="146" name="Retângulo 2"/>
          <p:cNvSpPr/>
          <p:nvPr/>
        </p:nvSpPr>
        <p:spPr>
          <a:xfrm>
            <a:off x="1507680" y="233280"/>
            <a:ext cx="61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  <a:ea typeface="Arial"/>
              </a:rPr>
              <a:t>MÉTODO SISMOLÓGICO UTILIZADO 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  <a:ea typeface="Arial"/>
              </a:rPr>
              <a:t>LEVANTAMENTOS GEO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2"/>
          <p:cNvSpPr/>
          <p:nvPr/>
        </p:nvSpPr>
        <p:spPr>
          <a:xfrm>
            <a:off x="195120" y="1273320"/>
            <a:ext cx="856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  <a:ea typeface="Arial"/>
              </a:rPr>
              <a:t>Estudos piloto envolvendo o uso deste método em vários levantamentos e aplicações geológicas, como por exemplo, o mapeamento da rocha de embasamento, estudos de erosão do solo e mapeamento do Quaternário, têm mostrado que é uma técnica versátil, não-invasiva e econô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5"/>
          <p:cNvSpPr/>
          <p:nvPr/>
        </p:nvSpPr>
        <p:spPr>
          <a:xfrm>
            <a:off x="195120" y="3927600"/>
            <a:ext cx="875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Esta técnica de imageamento sismológico é obtido através  da Sísmica Passiva para determinar o volume total dos depósitos de rocha alterada em uma caverna. Foi aplicada pela primeira vez por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Nehmé et al (2013) 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para estudos de espeleogênese, através da técnica da razão espectral H/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151" name="CaixaDeTexto 2"/>
          <p:cNvSpPr/>
          <p:nvPr/>
        </p:nvSpPr>
        <p:spPr>
          <a:xfrm>
            <a:off x="351000" y="1268280"/>
            <a:ext cx="803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Arial"/>
                <a:ea typeface="Arial"/>
              </a:rPr>
              <a:t>Fisher et al. (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Arial"/>
                <a:ea typeface="Arial"/>
              </a:rPr>
              <a:t>Ghasemizadeh et al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Arial"/>
                <a:ea typeface="Arial"/>
              </a:rPr>
              <a:t>Király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Arial"/>
                <a:ea typeface="Arial"/>
              </a:rPr>
              <a:t>Nehmé et al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4"/>
          <p:cNvSpPr/>
          <p:nvPr/>
        </p:nvSpPr>
        <p:spPr>
          <a:xfrm>
            <a:off x="287280" y="40464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Arial"/>
              </a:rPr>
              <a:t>REFERÊNCIAS BIBLIOGRÁ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2"/>
          <p:cNvSpPr/>
          <p:nvPr/>
        </p:nvSpPr>
        <p:spPr>
          <a:xfrm>
            <a:off x="395280" y="37152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PREMI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3"/>
          <p:cNvSpPr/>
          <p:nvPr/>
        </p:nvSpPr>
        <p:spPr>
          <a:xfrm>
            <a:off x="5219640" y="227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4"/>
          <p:cNvSpPr/>
          <p:nvPr/>
        </p:nvSpPr>
        <p:spPr>
          <a:xfrm>
            <a:off x="-41400" y="816120"/>
            <a:ext cx="901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evolução dos conhecimentos geológicos implica em câmbios nos requisitos e métodos de investigação, assim como nas soluções de engenh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ixaDeTexto 5"/>
          <p:cNvSpPr/>
          <p:nvPr/>
        </p:nvSpPr>
        <p:spPr>
          <a:xfrm>
            <a:off x="-65160" y="2073240"/>
            <a:ext cx="90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No caso dos ambientes cársticos essa premissa é ainda mais evidente, não há um único conjunto de ferramentas de investigação que se encaixe para todos estes amb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6"/>
          <p:cNvSpPr/>
          <p:nvPr/>
        </p:nvSpPr>
        <p:spPr>
          <a:xfrm>
            <a:off x="-74520" y="4589640"/>
            <a:ext cx="89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Conceitos básicos sobre modelamento e soluções de engenharia em áreas cársticas, serão abordados nesta palestra, assim como detalhes do método sismológico que a  TERRAFÍSICA  pretende utilizar no Projeto FI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8"/>
          <p:cNvSpPr/>
          <p:nvPr/>
        </p:nvSpPr>
        <p:spPr>
          <a:xfrm>
            <a:off x="-65160" y="3344760"/>
            <a:ext cx="89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reconstrução de um campo regional de fluxo de águas subterrâneas em uma área cárstica, quase sempre requer a utilização de modelos matemá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tângulo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m 1" descr=""/>
          <p:cNvPicPr/>
          <p:nvPr/>
        </p:nvPicPr>
        <p:blipFill>
          <a:blip r:embed="rId1"/>
          <a:stretch/>
        </p:blipFill>
        <p:spPr>
          <a:xfrm>
            <a:off x="7299360" y="6353280"/>
            <a:ext cx="173664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CaixaDeTexto 3"/>
          <p:cNvSpPr/>
          <p:nvPr/>
        </p:nvSpPr>
        <p:spPr>
          <a:xfrm>
            <a:off x="358920" y="2781360"/>
            <a:ext cx="842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U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BR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2"/>
          <p:cNvSpPr/>
          <p:nvPr/>
        </p:nvSpPr>
        <p:spPr>
          <a:xfrm>
            <a:off x="147600" y="35388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ODELAGEM MATEMÁTICA EM ÁREAS CÁR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3"/>
          <p:cNvSpPr/>
          <p:nvPr/>
        </p:nvSpPr>
        <p:spPr>
          <a:xfrm>
            <a:off x="123840" y="925560"/>
            <a:ext cx="879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odelo matemático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não é uma realidade, é somente a concretização da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representação de um sistema real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. A relação entre um </a:t>
            </a:r>
            <a:r>
              <a:rPr b="0" i="1" lang="pt-BR" sz="2400" spc="-1" strike="noStrike">
                <a:solidFill>
                  <a:srgbClr val="1f497d"/>
                </a:solidFill>
                <a:latin typeface="Arial"/>
              </a:rPr>
              <a:t>sistema real, um esquema abstrato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e um </a:t>
            </a:r>
            <a:r>
              <a:rPr b="0" i="1" lang="pt-BR" sz="2400" spc="-1" strike="noStrike">
                <a:solidFill>
                  <a:srgbClr val="1f497d"/>
                </a:solidFill>
                <a:latin typeface="Arial"/>
              </a:rPr>
              <a:t>modelo numérico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são partes do processo de model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4"/>
          <p:cNvSpPr/>
          <p:nvPr/>
        </p:nvSpPr>
        <p:spPr>
          <a:xfrm>
            <a:off x="68400" y="2649600"/>
            <a:ext cx="879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modelagem de sistemas de águas subterrâneas cársticas é particularmente desafiadora, devido às suas características originais e altamente heterogênea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(normalmente formada por uma rede de condut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147600" y="4448160"/>
            <a:ext cx="879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Nas últimas duas décadas, modelos matemáticos de fluxo de águas subterrâneas foram desenvolvidos para representar as características hidráulicas de aquíferos cársticos (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Király, 2003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2"/>
          <p:cNvSpPr/>
          <p:nvPr/>
        </p:nvSpPr>
        <p:spPr>
          <a:xfrm>
            <a:off x="719280" y="2602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ODELOS CONCEI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3"/>
          <p:cNvSpPr/>
          <p:nvPr/>
        </p:nvSpPr>
        <p:spPr>
          <a:xfrm>
            <a:off x="-46080" y="773280"/>
            <a:ext cx="909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Modelos conceituais são representações simplificadas de características específicas e processos do sistema aquífero real, e podem ser apresentados como imagem, diagrama, fluxograma ou na forma escr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4"/>
          <p:cNvSpPr/>
          <p:nvPr/>
        </p:nvSpPr>
        <p:spPr>
          <a:xfrm>
            <a:off x="-106200" y="2325600"/>
            <a:ext cx="88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Existem inúmeros modelos conceituais de aquíferos cársticos ilustrados na literatura (por exemplo, Mangin 1975; Branco 1977; Quinlan 1978; Stringfield et al 1979;.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Blavoux e Mudry 1983; Chen 1988;. Lee e Krothe 2001, Palmer et al 1999, Ford e Williams 2007) referenciados no trabalho de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Ghasemizadeh et al. 2012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(ver último sli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-3240" y="4651200"/>
            <a:ext cx="904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seguir apresentamos modelos conceituais de sistemas cársticos, seguidos por modelos conceituais mais específicos, a permeabilidade, a recarga, condições de descarga e trans-porte de contaminantes em águas cársticas subterrâne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pic>
        <p:nvPicPr>
          <p:cNvPr id="76" name="Imagem 2" descr=""/>
          <p:cNvPicPr/>
          <p:nvPr/>
        </p:nvPicPr>
        <p:blipFill>
          <a:blip r:embed="rId2"/>
          <a:stretch/>
        </p:blipFill>
        <p:spPr>
          <a:xfrm>
            <a:off x="1666800" y="2535120"/>
            <a:ext cx="5810400" cy="2867040"/>
          </a:xfrm>
          <a:prstGeom prst="rect">
            <a:avLst/>
          </a:prstGeom>
          <a:ln w="0">
            <a:noFill/>
          </a:ln>
        </p:spPr>
      </p:pic>
      <p:sp>
        <p:nvSpPr>
          <p:cNvPr id="77" name="CaixaDeTexto 4"/>
          <p:cNvSpPr/>
          <p:nvPr/>
        </p:nvSpPr>
        <p:spPr>
          <a:xfrm>
            <a:off x="176040" y="934920"/>
            <a:ext cx="893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Um aquífero cárstico é tipicamente caracterizado por fissuras, cavernas, mananciais, condutos e sistemas de drenagem subterrâneos (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Figura 1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) formados por dissolução, drenagem interna e processos de colap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5"/>
          <p:cNvSpPr/>
          <p:nvPr/>
        </p:nvSpPr>
        <p:spPr>
          <a:xfrm>
            <a:off x="358920" y="344520"/>
            <a:ext cx="84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ELABORAÇÃO DE MODELOS CONCEI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7"/>
          <p:cNvSpPr/>
          <p:nvPr/>
        </p:nvSpPr>
        <p:spPr>
          <a:xfrm>
            <a:off x="368280" y="555156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f497d"/>
                </a:solidFill>
                <a:latin typeface="Arial"/>
              </a:rPr>
              <a:t>Figura 1</a:t>
            </a:r>
            <a:r>
              <a:rPr b="0" lang="pt-BR" sz="2200" spc="-1" strike="noStrike">
                <a:solidFill>
                  <a:srgbClr val="1f497d"/>
                </a:solidFill>
                <a:latin typeface="Arial"/>
              </a:rPr>
              <a:t> –Modelo conceitual de um aquífero cárs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CaixaDeTexto 2"/>
          <p:cNvSpPr/>
          <p:nvPr/>
        </p:nvSpPr>
        <p:spPr>
          <a:xfrm>
            <a:off x="-27000" y="1900080"/>
            <a:ext cx="87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Uma avaliação quantitativa apropriada dos processos de fluxo e de transporte nesses aquíferos exige o conhecimento sobre as características de recarga e a localização dos principais sistemas de condutos. A maneira pela qual a água infiltrada é transmitida através do sistema também controla a resposta do sistema de re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ixaDeTexto 4"/>
          <p:cNvSpPr/>
          <p:nvPr/>
        </p:nvSpPr>
        <p:spPr>
          <a:xfrm>
            <a:off x="-27000" y="4435560"/>
            <a:ext cx="904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 sistema de condutos em área cárstica ocupa apenas uma pequena porção da porosidade total do aquífero, mas pode ter um grande impacto no comportamento hidráulico do sistema cár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6"/>
          <p:cNvSpPr/>
          <p:nvPr/>
        </p:nvSpPr>
        <p:spPr>
          <a:xfrm>
            <a:off x="422280" y="608040"/>
            <a:ext cx="87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INFORMAÇÕES ADICIONAIS PARA ELABORAÇÃO DE MODELOS CONCEI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3"/>
          <p:cNvSpPr/>
          <p:nvPr/>
        </p:nvSpPr>
        <p:spPr>
          <a:xfrm>
            <a:off x="130320" y="1332000"/>
            <a:ext cx="87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White (2003) apresenta um diagrama completo, incluindo componentes essenciais para modelos matemáticos em aquíferos cársticos.  Ref.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Ghasemizadeh et al.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4"/>
          <p:cNvSpPr/>
          <p:nvPr/>
        </p:nvSpPr>
        <p:spPr>
          <a:xfrm>
            <a:off x="250920" y="404640"/>
            <a:ext cx="85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MODELOS MATEM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212760" y="2768760"/>
            <a:ext cx="88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s três atributos fundamentais que regem o comportamento dos aquíferos cársticos são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recarga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armazenamento 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e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transmissão</a:t>
            </a: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8"/>
          <p:cNvSpPr/>
          <p:nvPr/>
        </p:nvSpPr>
        <p:spPr>
          <a:xfrm>
            <a:off x="244440" y="4202280"/>
            <a:ext cx="87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utras características que devem se avaliadas no modela-mento matemático de áreas cársticas são: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permeabilidade, descarga, transporte contaminado, transporte de solventes e o comportamento de NAPLs e DNAP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CaixaDeTexto 3"/>
          <p:cNvSpPr/>
          <p:nvPr/>
        </p:nvSpPr>
        <p:spPr>
          <a:xfrm>
            <a:off x="216000" y="33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DESCRIÇÕES MATEMÁTICAS DE SISTEMAS CÁR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4"/>
          <p:cNvSpPr/>
          <p:nvPr/>
        </p:nvSpPr>
        <p:spPr>
          <a:xfrm>
            <a:off x="-28440" y="839880"/>
            <a:ext cx="888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 fluxo e transporte em sistemas aquíferos cársticos podem ser teorizados e depois descritos matematicamente. Como o comportamento do fluxo e do transporte são diferentes para a matriz, fraturas, e sistemas de condutos, são necessárias diferentes descrições matemáticas para estes tipos de flu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ixaDeTexto 5"/>
          <p:cNvSpPr/>
          <p:nvPr/>
        </p:nvSpPr>
        <p:spPr>
          <a:xfrm>
            <a:off x="0" y="2871720"/>
            <a:ext cx="904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o descrever todo o sistema, é necessário acoplar os sistemas de fluxo da matriz, fraturas, e condutos. Esse acoplamento pode ser expresso matematicamente por um termo de troca linear e pela diferença do potencial hidráulico nestes sistemas (Liedl et al., 2003). Ref.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Ghasemizadeh et al.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6"/>
          <p:cNvSpPr/>
          <p:nvPr/>
        </p:nvSpPr>
        <p:spPr>
          <a:xfrm>
            <a:off x="-1440" y="4811760"/>
            <a:ext cx="90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s características específicas e processos do sistema aquífero verdadeiro podem ser representadas por equações diferenciais simples, como mostra </a:t>
            </a: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Ghasemizadeh et al.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e94909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m 1" descr=""/>
          <p:cNvPicPr/>
          <p:nvPr/>
        </p:nvPicPr>
        <p:blipFill>
          <a:blip r:embed="rId1"/>
          <a:stretch/>
        </p:blipFill>
        <p:spPr>
          <a:xfrm>
            <a:off x="7308720" y="6281640"/>
            <a:ext cx="173700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CaixaDeTexto 2"/>
          <p:cNvSpPr/>
          <p:nvPr/>
        </p:nvSpPr>
        <p:spPr>
          <a:xfrm>
            <a:off x="0" y="752400"/>
            <a:ext cx="90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s descrições matemáticas mencionadas no slide anterior formam a base para elaboração de modelos matemáticos que são usados para simular sistemas cársticos compl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ixaDeTexto 3"/>
          <p:cNvSpPr/>
          <p:nvPr/>
        </p:nvSpPr>
        <p:spPr>
          <a:xfrm>
            <a:off x="31680" y="1925640"/>
            <a:ext cx="908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Os primeiros modelos foram baseados em soluções analíticas das equações, por esse motivo foi necessário fazer suposi-ções simplificadoras significativas. Os modelos modernos são geralmente baseados em soluções numéricas utilizando os avanços significativos da tecnologia da compu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4"/>
          <p:cNvSpPr/>
          <p:nvPr/>
        </p:nvSpPr>
        <p:spPr>
          <a:xfrm>
            <a:off x="46080" y="2365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Arial"/>
              </a:rPr>
              <a:t>ABORDAGENS PARA MODEL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5"/>
          <p:cNvSpPr/>
          <p:nvPr/>
        </p:nvSpPr>
        <p:spPr>
          <a:xfrm>
            <a:off x="73080" y="3863880"/>
            <a:ext cx="899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Arial"/>
              </a:rPr>
              <a:t>A seleção do melhor método de aproximação e do algoritmo de computação, para resolver as equações de fluxo ou de transferência, depende principalmente dos dados disponíveis, sobre o mecanismo de fluxo dominante (matriz, fratura, ou fluxo de condutos), e sobre o objetivo da estudo (entre os quais está a modelagem de trans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5:43:26Z</dcterms:created>
  <dc:creator>Danilo</dc:creator>
  <dc:description/>
  <dc:language>en-US</dc:language>
  <cp:lastModifiedBy>Berrocal</cp:lastModifiedBy>
  <dcterms:modified xsi:type="dcterms:W3CDTF">2016-06-08T04:16:53Z</dcterms:modified>
  <cp:revision>541</cp:revision>
  <dc:subject/>
  <dc:title>Slide 1</dc:title>
</cp:coreProperties>
</file>